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127-4BF6-439B-94E8-7B5CD75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547-F9F2-4E06-9EC5-F638EFE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6C5-C365-49E7-9495-66DCF98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945-7574-4066-857F-77327FEE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45B-77CF-448D-8516-83425EB4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372-5BAB-471A-A690-C67BCF1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E680-2B1E-4125-9575-ED143AC3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D30F-F958-47A6-9876-ABFE660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717E-842F-4868-8BB0-AD6F348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9E7-8421-40D7-87AC-412CB699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5FD-D1E2-440F-AB5A-57B661A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87C-71E8-42D0-9060-A70FCF0B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4A4-0CE3-4A6F-B379-3CD8850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B098-7474-4315-9D70-27A9E05E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DA36-0E1C-43E8-A39A-1725E04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6E68-0ABC-46F2-842E-D38790DB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DF05-A9AA-4C80-A9B2-D8A7DA67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DAF-1968-46E3-A628-67414D62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E16-0AAB-4F73-AB3C-9607D7DE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072-7B04-4F41-BA2E-F25891E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C5A-7418-41A5-A9B9-5C7D5953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CCE-0F72-45BB-8859-FDCCB3F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B2D-9D80-4FCB-B757-13C16F1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69F-F561-4144-8384-C6EB99D4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CB85-5878-4EFE-B91C-F59934B154F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5119-5F31-4EE5-85C2-213E35825A7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686160"/>
            <a:ext cx="687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How old is London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V="1" rot="10729800">
            <a:off x="6171840" y="5235840"/>
            <a:ext cx="18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6120" y="3001680"/>
            <a:ext cx="4516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ore then 2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4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